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3C5-09D2-4DE4-93A9-20B38F46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626-ADBE-46E9-8E06-26084FD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4A1-3D57-4B4B-B4B3-803B71B9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F7C9-4267-4069-815E-BEA550F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02A-78F2-422B-A95B-A78DBED0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A61-586E-4619-ACC5-362117E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E23-F03F-4785-A4CE-192F5B6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058-AB32-43EE-905F-8B43CA59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1FA-2095-43FF-A4B3-86E2944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C64-C60D-4A20-878F-8442E28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C60-3FBD-42CC-91A5-C5CF4F9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EFC-8535-43B6-A645-3054BCA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853B-A4B5-45F4-A74A-E1D529B3F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th Cam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ango problem with possibl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ngo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ket of mangos was delivered to the pa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g took 1/6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queen took 1/5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incess took 1/4 of the ma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ince took 1/3 of the man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m what was 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duchess took 1/2 of the mang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ft only 3 mangos in the bowl for the serv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angos were originally in the bask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uler is the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ess and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a multiple of 6    Let’s pick 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6 of 6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5 of 5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4 of 4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 of 3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2 of 20 i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left over is too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 lower multiple of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362320"/>
            <a:ext cx="914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ch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83818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Queen        Princess           Prince       Duchess      Ser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373392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36576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410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+ 3 + 3 + 3 + 3 + 3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 of 24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5 of 20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of 16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low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6 of 18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5 of 1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s what was left so 6 people X 3 = 18 m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Back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ant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hess (took ½)  so   3 is half of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    (took 1/3) so 6 is 2/3 of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ess (took ¼)  so 9 is3/4 of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   (took 1/5) so 12 is 4/5 of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      (took 1/6)  so 1 is 5/6 of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2:11:04Z</dcterms:created>
  <dc:creator>Peel District School Board</dc:creator>
  <dc:description/>
  <dc:language>en-US</dc:language>
  <cp:lastModifiedBy>Peel District School Board</cp:lastModifiedBy>
  <dcterms:modified xsi:type="dcterms:W3CDTF">2012-06-23T12:11:40Z</dcterms:modified>
  <cp:revision>1</cp:revision>
  <dc:subject/>
  <dc:title>Math Camppp</dc:title>
</cp:coreProperties>
</file>